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E3DD-5765-4BC2-A107-44DE56201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26EA-75AB-4F81-95CA-37C1ABE3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04C3-B0AD-47B5-911C-073AB3247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D507-25D6-4D6B-9A27-4273C2AAB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3599-3577-4B87-805C-55369A84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0770-DBC1-430A-8558-DAE3D0FD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1D5D-647F-4FC3-B9BE-B13D1398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37F9-E2BA-4E6A-BC1F-1B5293AC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A489-3576-4813-A1D5-66AC8895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19AA-2EEF-4937-9D29-AA0C8C45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3806-B08A-473D-8BB2-6AC9B781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D505-EDA6-4E71-8F2F-77739D06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52CD-9F6C-4F14-A56B-7E1E4D9126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aespanthers.pbworks.com/w/page/55400526/FrontPage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aespanthers.pbworks.com/w/file/60176951/Turner_class_calendar_2012-2013.notebook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lauracandler.com/filecabinet/math/miscmath.php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nrich.maths.org/4725" TargetMode="External"/><Relationship Id="rId2" Type="http://schemas.openxmlformats.org/officeDocument/2006/relationships/image" Target="../media/image15.png"/><Relationship Id="rId3" Type="http://schemas.openxmlformats.org/officeDocument/2006/relationships/hyperlink" Target="http://nrich.maths.org/4725" TargetMode="External"/><Relationship Id="rId4" Type="http://schemas.openxmlformats.org/officeDocument/2006/relationships/hyperlink" Target="http://nrich.maths.org/4725" TargetMode="External"/><Relationship Id="rId5" Type="http://schemas.openxmlformats.org/officeDocument/2006/relationships/hyperlink" Target="http://ncctmbalances.wikispaces.com/" TargetMode="External"/><Relationship Id="rId6" Type="http://schemas.openxmlformats.org/officeDocument/2006/relationships/hyperlink" Target="http://ncctmbalances.wikispaces.com/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Bears Talking"/>
          <p:cNvPicPr/>
          <p:nvPr/>
        </p:nvPicPr>
        <p:blipFill>
          <a:blip r:embed="rId1"/>
          <a:stretch/>
        </p:blipFill>
        <p:spPr>
          <a:xfrm>
            <a:off x="0" y="0"/>
            <a:ext cx="8763120" cy="6834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C:\Users\lgarrison\AppData\Local\Microsoft\Windows\Temporary Internet Files\Content.IE5\OT82RI0M\MC900441366[1].png"/>
          <p:cNvPicPr/>
          <p:nvPr/>
        </p:nvPicPr>
        <p:blipFill>
          <a:blip r:embed="rId2">
            <a:lum bright="16000"/>
          </a:blip>
          <a:stretch/>
        </p:blipFill>
        <p:spPr>
          <a:xfrm>
            <a:off x="1600200" y="12952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C:\Users\lgarrison\AppData\Local\Microsoft\Windows\Temporary Internet Files\Content.IE5\N629369X\MC900432534[1].png"/>
          <p:cNvPicPr/>
          <p:nvPr/>
        </p:nvPicPr>
        <p:blipFill>
          <a:blip r:embed="rId3"/>
          <a:stretch/>
        </p:blipFill>
        <p:spPr>
          <a:xfrm>
            <a:off x="4114800" y="22860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52480" y="-400320"/>
            <a:ext cx="739152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Kristen ITC"/>
              </a:rPr>
              <a:t>True/Fals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Kristen ITC"/>
              </a:rPr>
              <a:t>First Graders Can’t Do Algeb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1981080" y="20574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d you know that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graders can do algebr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4267080" y="29718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e you serious???  That’s crazy talk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rcRect l="20500" t="16668" r="23280" b="6250"/>
          <a:stretch/>
        </p:blipFill>
        <p:spPr>
          <a:xfrm>
            <a:off x="0" y="0"/>
            <a:ext cx="9144000" cy="70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>
            <a:alpha val="2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Calibri"/>
              </a:rPr>
              <a:t>Mr. Pip’s Fruit Bal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rcRect l="24430" t="16835" r="25377" b="27607"/>
          <a:stretch/>
        </p:blipFill>
        <p:spPr>
          <a:xfrm>
            <a:off x="228600" y="1447920"/>
            <a:ext cx="6172200" cy="3843360"/>
          </a:xfrm>
          <a:prstGeom prst="rect">
            <a:avLst/>
          </a:prstGeom>
          <a:ln w="0">
            <a:noFill/>
          </a:ln>
        </p:spPr>
      </p:pic>
      <p:sp>
        <p:nvSpPr>
          <p:cNvPr id="90" name="TextBox 7"/>
          <p:cNvSpPr/>
          <p:nvPr/>
        </p:nvSpPr>
        <p:spPr>
          <a:xfrm>
            <a:off x="609480" y="60199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drag and drop balance scales simulation is an open ended application that teachers can use to support mathematical learning in a variety of way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6781680" y="4572000"/>
            <a:ext cx="2133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You will need to click on </a:t>
            </a:r>
            <a:r>
              <a:rPr b="1" i="1" lang="en-US" sz="1200" spc="-1" strike="noStrike">
                <a:solidFill>
                  <a:srgbClr val="00b050"/>
                </a:solidFill>
                <a:latin typeface="Arial"/>
              </a:rPr>
              <a:t>Manage Mass </a:t>
            </a: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and reset the weights of the fruits to numbers that are manageable for your clas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629400" y="1371600"/>
          <a:ext cx="2362320" cy="3108240"/>
        </p:xfrm>
        <a:graphic>
          <a:graphicData uri="http://schemas.openxmlformats.org/drawingml/2006/table">
            <a:tbl>
              <a:tblPr/>
              <a:tblGrid>
                <a:gridCol w="990720"/>
                <a:gridCol w="380880"/>
                <a:gridCol w="990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apple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oran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oran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peach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or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cher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p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orange and 2 cher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Box 11"/>
          <p:cNvSpPr/>
          <p:nvPr/>
        </p:nvSpPr>
        <p:spPr>
          <a:xfrm>
            <a:off x="1676520" y="5410080"/>
            <a:ext cx="46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rickweb.co.uk/ks2numeracy-shape-and-weight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92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520" y="0"/>
            <a:ext cx="617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Find The Rule Gam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rcRect l="22550" t="18519" r="22550" b="12456"/>
          <a:stretch/>
        </p:blipFill>
        <p:spPr>
          <a:xfrm>
            <a:off x="685800" y="1295280"/>
            <a:ext cx="7869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35000" y="0"/>
            <a:ext cx="9085320" cy="5867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4"/>
          <p:cNvSpPr/>
          <p:nvPr/>
        </p:nvSpPr>
        <p:spPr>
          <a:xfrm>
            <a:off x="914400" y="579132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oswego.org/ocsd-web/games/SumSense/sumadd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905960" cy="55627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209680" y="57913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ww.dreambox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5715000" y="59436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eacher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f0"/>
                </a:solidFill>
                <a:latin typeface="Calibri"/>
              </a:rPr>
              <a:t>Number Balance for the iPa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rcRect l="565" t="8017" r="38001" b="28858"/>
          <a:stretch/>
        </p:blipFill>
        <p:spPr>
          <a:xfrm>
            <a:off x="533520" y="1219320"/>
            <a:ext cx="8305560" cy="48006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533520" y="60958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venturaes.com/index_new.asp?http://www.venturaes.com/ipadapps/hom1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omputer Bear"/>
          <p:cNvPicPr/>
          <p:nvPr/>
        </p:nvPicPr>
        <p:blipFill>
          <a:blip r:embed="rId1"/>
          <a:stretch/>
        </p:blipFill>
        <p:spPr>
          <a:xfrm>
            <a:off x="5462640" y="3124080"/>
            <a:ext cx="3452760" cy="324828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609480" y="380880"/>
            <a:ext cx="769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is slide show and other materials can be found a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304920" y="2209680"/>
            <a:ext cx="5181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http://</a:t>
            </a:r>
            <a:r>
              <a:rPr b="0" lang="en-US" sz="4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aespanthers.pbworks.com/w/page/55400526/FrontPage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e496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Big Bear"/>
          <p:cNvPicPr/>
          <p:nvPr/>
        </p:nvPicPr>
        <p:blipFill>
          <a:blip r:embed="rId1"/>
          <a:stretch/>
        </p:blipFill>
        <p:spPr>
          <a:xfrm>
            <a:off x="1143000" y="325440"/>
            <a:ext cx="6705720" cy="6380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2362320" y="228600"/>
            <a:ext cx="3886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True/Fals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6324480" y="1219320"/>
            <a:ext cx="2743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rue/ False statements are a productive way to get students to think about equa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http://icons.mysitemyway.com/wp-content/gallery/green-metallic-orbs-icons-alphanumeric/071859-green-metallic-orb-icon-alphanumeric-equal-sign.png"/>
          <p:cNvPicPr/>
          <p:nvPr/>
        </p:nvPicPr>
        <p:blipFill>
          <a:blip r:embed="rId2"/>
          <a:stretch/>
        </p:blipFill>
        <p:spPr>
          <a:xfrm>
            <a:off x="3581280" y="5029200"/>
            <a:ext cx="1565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3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Bear Paw Prints"/>
          <p:cNvPicPr/>
          <p:nvPr/>
        </p:nvPicPr>
        <p:blipFill>
          <a:blip r:embed="rId1"/>
          <a:stretch/>
        </p:blipFill>
        <p:spPr>
          <a:xfrm rot="2116800">
            <a:off x="241200" y="2116080"/>
            <a:ext cx="4410000" cy="3819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Bear Paw Prints"/>
          <p:cNvPicPr/>
          <p:nvPr/>
        </p:nvPicPr>
        <p:blipFill>
          <a:blip r:embed="rId2"/>
          <a:stretch/>
        </p:blipFill>
        <p:spPr>
          <a:xfrm rot="3737400">
            <a:off x="5159160" y="1616040"/>
            <a:ext cx="4410000" cy="38196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66880" y="762120"/>
            <a:ext cx="381024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3 + 2 = 5</a:t>
            </a:r>
            <a:br>
              <a:rPr sz="4900"/>
            </a:b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5 = 3 + 2</a:t>
            </a:r>
            <a:br>
              <a:rPr sz="4900"/>
            </a:b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5 = 5</a:t>
            </a:r>
            <a:br>
              <a:rPr sz="4900"/>
            </a:b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3 + 2 = 3 + 2 </a:t>
            </a:r>
            <a:br>
              <a:rPr sz="4900"/>
            </a:b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3 + 2 = 2 + 3</a:t>
            </a:r>
            <a:br>
              <a:rPr sz="4900"/>
            </a:b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3 + 2 = 4 + 1</a:t>
            </a:r>
            <a:br>
              <a:rPr sz="49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1447920" y="38088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the following equations true or fal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228600" y="59436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 with equations that children are familiar with seeing.  Move toward equations that are not in the 2 numbers and operation on left and answer on right form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685800" y="158760"/>
            <a:ext cx="7924680" cy="66834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2895480" y="58672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aespanthers.pbworks.com/w/file/60176951/Turner_class_calendar_2012-2013.noteboo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Oval 7"/>
          <p:cNvSpPr/>
          <p:nvPr/>
        </p:nvSpPr>
        <p:spPr>
          <a:xfrm>
            <a:off x="3124080" y="2590920"/>
            <a:ext cx="1676520" cy="1904760"/>
          </a:xfrm>
          <a:prstGeom prst="ellipse">
            <a:avLst/>
          </a:prstGeom>
          <a:solidFill>
            <a:srgbClr val="ffff00"/>
          </a:solidFill>
          <a:ln w="18432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8"/>
          <p:cNvSpPr/>
          <p:nvPr/>
        </p:nvSpPr>
        <p:spPr>
          <a:xfrm>
            <a:off x="5562720" y="1600200"/>
            <a:ext cx="1523880" cy="1752480"/>
          </a:xfrm>
          <a:prstGeom prst="ellipse">
            <a:avLst/>
          </a:prstGeom>
          <a:solidFill>
            <a:srgbClr val="ffff00"/>
          </a:solidFill>
          <a:ln w="85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0"/>
          <p:cNvSpPr/>
          <p:nvPr/>
        </p:nvSpPr>
        <p:spPr>
          <a:xfrm>
            <a:off x="5638680" y="3809880"/>
            <a:ext cx="1524240" cy="1752840"/>
          </a:xfrm>
          <a:prstGeom prst="ellipse">
            <a:avLst/>
          </a:prstGeom>
          <a:solidFill>
            <a:srgbClr val="ffff00"/>
          </a:solidFill>
          <a:ln w="85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12"/>
          <p:cNvSpPr/>
          <p:nvPr/>
        </p:nvSpPr>
        <p:spPr>
          <a:xfrm flipV="1">
            <a:off x="4800600" y="2819520"/>
            <a:ext cx="838080" cy="38088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14"/>
          <p:cNvSpPr/>
          <p:nvPr/>
        </p:nvSpPr>
        <p:spPr>
          <a:xfrm>
            <a:off x="4800600" y="4114800"/>
            <a:ext cx="838080" cy="30492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8"/>
          <p:cNvSpPr/>
          <p:nvPr/>
        </p:nvSpPr>
        <p:spPr>
          <a:xfrm>
            <a:off x="533520" y="457200"/>
            <a:ext cx="2895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umber Bon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9"/>
          <p:cNvSpPr/>
          <p:nvPr/>
        </p:nvSpPr>
        <p:spPr>
          <a:xfrm>
            <a:off x="533520" y="594360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bonds help students see how numbers can be decompo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0"/>
          <p:cNvSpPr/>
          <p:nvPr/>
        </p:nvSpPr>
        <p:spPr>
          <a:xfrm>
            <a:off x="3581280" y="274320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1"/>
          <p:cNvSpPr/>
          <p:nvPr/>
        </p:nvSpPr>
        <p:spPr>
          <a:xfrm>
            <a:off x="6019920" y="403848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2"/>
          <p:cNvSpPr/>
          <p:nvPr/>
        </p:nvSpPr>
        <p:spPr>
          <a:xfrm>
            <a:off x="5867280" y="175248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Fruit Loop Algebr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1066680" y="1700280"/>
            <a:ext cx="6900840" cy="51577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3124080" y="609588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by Laura C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lauracandler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362320" y="-15264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alibri"/>
              </a:rPr>
              <a:t>Teddy Bear  Counter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rcRect l="7614" t="60418" r="65447" b="21875"/>
          <a:stretch/>
        </p:blipFill>
        <p:spPr>
          <a:xfrm>
            <a:off x="1143000" y="4267080"/>
            <a:ext cx="7010280" cy="2590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http://www.exodusbooks.com/Samples/Games/BearManipulativesComparison.jpg"/>
          <p:cNvPicPr/>
          <p:nvPr/>
        </p:nvPicPr>
        <p:blipFill>
          <a:blip r:embed="rId2"/>
          <a:stretch/>
        </p:blipFill>
        <p:spPr>
          <a:xfrm>
            <a:off x="0" y="228600"/>
            <a:ext cx="3124080" cy="2600280"/>
          </a:xfrm>
          <a:prstGeom prst="rect">
            <a:avLst/>
          </a:prstGeom>
          <a:ln w="0">
            <a:noFill/>
          </a:ln>
        </p:spPr>
      </p:pic>
      <p:sp>
        <p:nvSpPr>
          <p:cNvPr id="77" name="TextBox 9"/>
          <p:cNvSpPr/>
          <p:nvPr/>
        </p:nvSpPr>
        <p:spPr>
          <a:xfrm>
            <a:off x="4419720" y="1295280"/>
            <a:ext cx="4114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ring teddy bear counters is a concrete way to problem solve and make algebraic connection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http://schoolmart.com/ProductImages/ler3/LER-0727.jpg"/>
          <p:cNvPicPr/>
          <p:nvPr/>
        </p:nvPicPr>
        <p:blipFill>
          <a:blip r:embed="rId3"/>
          <a:srcRect l="0" t="0" r="13648" b="13648"/>
          <a:stretch/>
        </p:blipFill>
        <p:spPr>
          <a:xfrm>
            <a:off x="5334120" y="3657600"/>
            <a:ext cx="1447560" cy="1447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http://www.ascoeducational.co.uk/shopimages/products/thumbnails/bb01.jpg"/>
          <p:cNvPicPr/>
          <p:nvPr/>
        </p:nvPicPr>
        <p:blipFill>
          <a:blip r:embed="rId4"/>
          <a:srcRect l="73401" t="40371" r="2754" b="32115"/>
          <a:stretch/>
        </p:blipFill>
        <p:spPr>
          <a:xfrm>
            <a:off x="6477120" y="4038480"/>
            <a:ext cx="1066680" cy="1230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http://www.ascoeducational.co.uk/shopimages/products/thumbnails/bb01.jpg"/>
          <p:cNvPicPr/>
          <p:nvPr/>
        </p:nvPicPr>
        <p:blipFill>
          <a:blip r:embed="rId5"/>
          <a:srcRect l="41973" t="34953" r="28155" b="33984"/>
          <a:stretch/>
        </p:blipFill>
        <p:spPr>
          <a:xfrm>
            <a:off x="1828800" y="3276720"/>
            <a:ext cx="1905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>
            <a:hlinkClick r:id="rId1"/>
          </p:cNvPr>
          <p:cNvPicPr/>
          <p:nvPr/>
        </p:nvPicPr>
        <p:blipFill>
          <a:blip r:embed="rId2"/>
          <a:srcRect l="34555" t="38543" r="32652" b="27087"/>
          <a:stretch/>
        </p:blipFill>
        <p:spPr>
          <a:xfrm>
            <a:off x="1219320" y="762120"/>
            <a:ext cx="6553080" cy="38624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Using Number Bala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1"/>
          <p:cNvSpPr/>
          <p:nvPr/>
        </p:nvSpPr>
        <p:spPr>
          <a:xfrm flipV="1" rot="10800000">
            <a:off x="304920" y="4654440"/>
            <a:ext cx="8153280" cy="15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More Than- Less Than- Equal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tudent A picks a number card and places a weight on his/her side of the balance.  Student B picks a number card from the deck and places a weight on his/her side of the balance.  What happened?  Record the discoveries on the recording sheet.  (Ex: 4 is more than 3; 6 is less than 9).  NOTE:  Only after many experiences with the language of “more than” and “less than” are the symbols (&lt;  &gt;) introduced and us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iation: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 Students pick two number cards:  Ex:  2 and 5 is more than 3 and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>
            <a:hlinkClick r:id="rId3"/>
          </p:cNvPr>
          <p:cNvSpPr/>
          <p:nvPr/>
        </p:nvSpPr>
        <p:spPr>
          <a:xfrm>
            <a:off x="5410080" y="373392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nrich.maths.org/472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5943600" y="6180120"/>
            <a:ext cx="320040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2008 DPI Primary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Located at: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ncctmbalances.wikispaces.com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/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9T22:52:27Z</dcterms:created>
  <dc:creator>lgarrison</dc:creator>
  <dc:description/>
  <dc:language>en-US</dc:language>
  <cp:lastModifiedBy>afloyd</cp:lastModifiedBy>
  <dcterms:modified xsi:type="dcterms:W3CDTF">2013-02-26T13:54:23Z</dcterms:modified>
  <cp:revision>80</cp:revision>
  <dc:subject/>
  <dc:title>True/False First Graders Can’t Do Algebra</dc:title>
</cp:coreProperties>
</file>